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AF95-A9F8-4EED-9382-4D7CCD24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A66-3228-4AD8-BC03-30B07186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5A3D-90B0-4663-A710-D33F8D1C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103-BC0E-416C-91A9-523CD692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DD8-BCD2-4AD5-B628-297E0330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4EC8-7B11-420C-8973-0A3D23EE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9A96-31C6-4130-9D44-EF507DB4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D22B-0CFE-48D7-ADA9-3B5043AB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8A7B-D431-4064-94C4-AF39C901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28F-728E-45C8-B711-EEF0A053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31A-B00C-4C8A-A404-7016F5FD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A0AB-3043-4466-BD63-057C7084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9D64-5C1A-4364-999D-0DD70E2427C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449360"/>
            <a:ext cx="8175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Calibri"/>
              </a:rPr>
              <a:t>Обобщение и систематизация  знаний по теме: «Деепричастие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1547640" y="333360"/>
            <a:ext cx="592956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рок русского 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 7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рименение знаний и умений в новой ситуац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нструирование предложений с деепричастными оборот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- Замените глаголы деепричастиями. Запишите предложения с деепричастными оборотами. Задание выполняется по вариантам: 1 вариант изменяет первый глагол в предложении, 2 вариант – второ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1. Снежинки кружатся и падают с небес, словно звезд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2. Снег ложится на землю и покрывает ее пушистым ковр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3. Природа как будто рассказывает сказку и застывает в зимнем сн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4. Мы возвращались после прогулки и долго вспоминали красоту зимнего лес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ечевые нормы употребления деепричастных оборо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Какое правило нужно помнить, используя деепричастия в предложениях? (Основное действие, обозначенное глаголом-сказуемым, и добавочное действие, обозначенное деепричастием, должны относиться к одному и тому же лицу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Разбор речевых ошибок на примере предлож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одъезжая к лесу, вдруг выскочил вол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Заканчивая чертеж, у меня сломался карандаш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Войдя в автобус, неожиданно пошел сне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Calibri"/>
              </a:rPr>
              <a:t>Контроль усвоения знан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Мини-тес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- В каждом примере выберите правильное продолжение предложе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. Приехав в деревню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а) весь сад был в снегу; б) я застал весь сад в снег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2. Возвращаясь домой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я попал под снегопад; б) начался сне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3. Выйдя на улицу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) ему стало холодно; б) он почувствовал холод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Игра на быстроту </a:t>
            </a: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реакции и вним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0040" y="1499760"/>
            <a:ext cx="83930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33520" indent="36036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80172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КНАЕУЮБАИКВ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433520" indent="36036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80172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ЖЭЭКЕЖФГОДИ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УФЯ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433520" indent="36036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80172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ЙЕДУЗВИГЙАЯЗСЬ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433520" indent="36036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80172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ДМНЕМУСАТ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ЛЯА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433520" indent="36036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80172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НЮЕВЗСИЮРАПП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28760" y="4429080"/>
            <a:ext cx="8464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Как можно быстрее из каждой строчки исключите лишь те буквы, которые повторяются; запишите правильно получившиеся слова. Выделите суффиксы получившихся деепричас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Calibri"/>
              </a:rPr>
              <a:t>Ответы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42560" y="1483920"/>
            <a:ext cx="723924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62440" indent="-343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НЕ УБИ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62440" indent="-343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НЕГОДУ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62440" indent="-343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НЕ ДВИГАЯС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62440" indent="-343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НЕ УСТОЯ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62440" indent="-34308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НЕВЗИРА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24000" y="4653000"/>
            <a:ext cx="748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Слова какой части речи получились у В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Объясните правописание НЕ с деепричаст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Самостоятельная раб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Списать текст, образовать от глаголов в скобках деепричастия или причастия; расставить знаки препинания, вставив пропущенные букв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I вариан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По ясному небу н..слись (не закрыть) со.нца низкие дымчатые тучи. (Запыхаться) мчится вдоль дороги мартовский ветерок. (Извиниться) за майскую погоду черемуха пригласила всех знако­мых на ча..питие. (Думать) о звездах мы думаем и о земн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II вариан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Если прищ..рить глаза то высоко (мерцать) звездоч..ки пр..близят..ся.  (Разогнать) обл..ка прокатился по небу тонким ко­лесом позолоче(н,нн)ый  мес..ц. Обл..ка (задевать) за рыжую боро­ду молодого мес..ца сд..рают с нее позолоту и плывут дальше уже (окрасить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Рефлекс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Сделайте выв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д о роли деепричастий в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Какое задание на уроке у вас вызвало затруднение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Какое задание вам показалось самым легки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ую оценку за урок вы бы поставили себе и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9560"/>
            <a:ext cx="8291520" cy="31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готовить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 контрольному диктанту по теме  «Деепричастие» и выполнить упражнение 2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Цели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4200" y="1125360"/>
            <a:ext cx="7786800" cy="533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alibri"/>
              </a:rPr>
              <a:t>Образовательна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общение и систематизация сведений о деепричастии и деепричастном обороте; выработка практического умения находить  деепричастный оборот и ставить знаки препинания при нё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alibri"/>
              </a:rPr>
              <a:t>Развивающа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ирование познавательных способностей – речи, мышления, внимания, воображения; формирование умения анализировать, классифицировать, обобща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alibri"/>
              </a:rPr>
              <a:t>Воспитательна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здание эмоционального настроя через различные педагогические  технологии; воспитание толерантного и уважительного отношения к мнению других, чувства товарищества и коллективизма, умение работать в паре и групп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3840" y="1356840"/>
            <a:ext cx="831852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3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Организационный момен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Синтаксическая пятиминут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Цифровой диктан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Работа с текст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 Применение знаний и умений в новой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. Контроль усвоения знаний. Мини-те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Игра на быстроту реакции и вним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 Самостоятельная рабо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9.Итог уро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0.Домашнее зад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00" y="32040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Синтаксическая </a:t>
            </a:r>
            <a:br>
              <a:rPr sz="3600"/>
            </a:b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пятиминут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4920" y="1708200"/>
            <a:ext cx="820908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ымов ежегодно ездил по различным интересным частям Африки с терпением изучая её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:\Documents and Settings\Admin.ЮРА\Рабочий стол\000049[1].jpg"/>
          <p:cNvPicPr/>
          <p:nvPr/>
        </p:nvPicPr>
        <p:blipFill>
          <a:blip r:embed="rId1"/>
          <a:stretch/>
        </p:blipFill>
        <p:spPr>
          <a:xfrm>
            <a:off x="2771640" y="3500280"/>
            <a:ext cx="4513320" cy="3036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Вопросы для бесе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26560" y="1341000"/>
            <a:ext cx="7643880" cy="48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55680" indent="-3556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ите грамматическую основу предло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е это предлож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м осложнено это предлож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ие знаки препинания Вы поставите? Объясните их постановк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но произведите морфологический разбор деепричаст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перь из первых букв каждого слова составьте новое сло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2" descr=""/>
          <p:cNvPicPr/>
          <p:nvPr/>
        </p:nvPicPr>
        <p:blipFill>
          <a:blip r:embed="rId1"/>
          <a:stretch/>
        </p:blipFill>
        <p:spPr>
          <a:xfrm>
            <a:off x="426960" y="1139760"/>
            <a:ext cx="8393040" cy="4846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Цифровой дикта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3840" y="1214280"/>
            <a:ext cx="87505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Если Вы согласны с моим утверждением, поставьте «1», если нет – «0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Calibri"/>
              </a:rPr>
              <a:t>Утверждения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355680" algn="just">
              <a:lnSpc>
                <a:spcPct val="80000"/>
              </a:lnSpc>
              <a:spcBef>
                <a:spcPts val="675"/>
              </a:spcBef>
              <a:buClr>
                <a:srgbClr val="66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еепричастие - самостоятельная часть реч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355680" algn="just">
              <a:lnSpc>
                <a:spcPct val="80000"/>
              </a:lnSpc>
              <a:spcBef>
                <a:spcPts val="675"/>
              </a:spcBef>
              <a:buClr>
                <a:srgbClr val="66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еепричастный оборот выделяется запятыми, только когда стоит после определяемого сло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355680" algn="just">
              <a:lnSpc>
                <a:spcPct val="80000"/>
              </a:lnSpc>
              <a:spcBef>
                <a:spcPts val="675"/>
              </a:spcBef>
              <a:buClr>
                <a:srgbClr val="66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еепричастия бывают совершенного и несовершенного ви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355680" algn="just">
              <a:lnSpc>
                <a:spcPct val="80000"/>
              </a:lnSpc>
              <a:spcBef>
                <a:spcPts val="675"/>
              </a:spcBef>
              <a:buClr>
                <a:srgbClr val="66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 с деепричастиями всегда пишется раздельн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355680" algn="just">
              <a:lnSpc>
                <a:spcPct val="80000"/>
              </a:lnSpc>
              <a:spcBef>
                <a:spcPts val="675"/>
              </a:spcBef>
              <a:buClr>
                <a:srgbClr val="66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еепричастие и деепричастный оборот являются обстоятельств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355680" algn="just">
              <a:lnSpc>
                <a:spcPct val="80000"/>
              </a:lnSpc>
              <a:spcBef>
                <a:spcPts val="675"/>
              </a:spcBef>
              <a:buClr>
                <a:srgbClr val="66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еепричастия совершенного вида отвечают на вопрос ЧТО ДЕЛАЯ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1320" y="259920"/>
            <a:ext cx="651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цифровому дикта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2" descr=""/>
          <p:cNvPicPr/>
          <p:nvPr/>
        </p:nvPicPr>
        <p:blipFill>
          <a:blip r:embed="rId1"/>
          <a:stretch/>
        </p:blipFill>
        <p:spPr>
          <a:xfrm>
            <a:off x="695160" y="189000"/>
            <a:ext cx="7894800" cy="3786120"/>
          </a:xfrm>
          <a:prstGeom prst="rect">
            <a:avLst/>
          </a:prstGeom>
          <a:ln w="0">
            <a:noFill/>
          </a:ln>
        </p:spPr>
      </p:pic>
      <p:pic>
        <p:nvPicPr>
          <p:cNvPr id="57" name="Заголовок 1" descr=""/>
          <p:cNvPicPr/>
          <p:nvPr/>
        </p:nvPicPr>
        <p:blipFill>
          <a:blip r:embed="rId2"/>
          <a:stretch/>
        </p:blipFill>
        <p:spPr>
          <a:xfrm>
            <a:off x="1116000" y="292572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663480" y="4057560"/>
            <a:ext cx="81439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45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 ошибок –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45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ошибка– «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45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-3 ошибки – «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45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ошибки – «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45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45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669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Работа с текс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98064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читайте текст и выполните зада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..дчу(?)ствуя (не)приятную встречу ворча и оглядываясь Каштанка вошла в маленькую комнату и в страхе попятилась назад. Она увид..ла нечто (не) ожида(н,нн)ое и стра(н,нн)ое. Пр..гнув к земле шею и голову растопырив крылья и шипя на неё ш..л серый гусь. В стороне от него л..жал белый кот. Увид..в Каштанку он в..кочил выгнул спину и зашипел. Собака и..пугалась но (не)желая выдавать своего стра­ха громко зала..ла. Кот ещё сильнее выгнул спину зашипел и ударил Каштанку лапой по голове. Каш­танка отск..чила и накл..няя к коту морду з..лилась визгливым лаем. Гусь подошёл сзади и ударил её клювом в спин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Вставьте пропущенные буквы и знаки препинания, рас­кройте скоб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Из какого произведения взят этот отрывок? Кто его ав­тор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Графически обозначьте деепричастные обороты и те слова, к которым они относят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Выпишите все деепричастия и укажите их ви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 Выпишите из последнего предложения слово, в кото­ром букв больше, чем зву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.Выпишите из первого предложения грамматическую основ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. Выполнить морфологический разбор деепричастий из первого предлож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2:45:30Z</dcterms:created>
  <dc:creator>РОГАЧЕВА</dc:creator>
  <dc:description/>
  <dc:language>en-US</dc:language>
  <cp:lastModifiedBy>999</cp:lastModifiedBy>
  <dcterms:modified xsi:type="dcterms:W3CDTF">2021-12-13T18:57:08Z</dcterms:modified>
  <cp:revision>68</cp:revision>
  <dc:subject/>
  <dc:title>Обобщение и систематизация  изученного по теме: «Деепричастие»</dc:title>
</cp:coreProperties>
</file>